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7B7-9D4A-4B0A-BB4A-0E67A92F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2F6-FC18-419B-9E79-6AFF8A35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91F-92CB-44A3-8694-5778F275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ECB-4D34-4232-B5A7-9132AE05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A9929-E475-4BE0-A47A-9E59911B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8C569-2D96-459A-BDB7-4FCD033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32CD3-4AB1-49E9-9B17-7207D0CB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F5044-CC49-4FD2-8AF5-5712A7BC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D49F0-E595-4920-9C66-BBFD81FB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05FF0-9396-47C0-8D3E-638B7E6B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8C0A5-93EA-4B2E-8452-547CEC06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54E-6575-4061-BA44-E1C87556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386BD-0383-4AC4-95CE-D2990B1A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CC554-5223-4D11-A5AB-313E6659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A0F77-D5E2-4636-9FE2-9AFEB084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8A6AC-2FC7-49F1-9AB9-FE899E91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DF454-81A4-475D-A857-AE052CE5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B07-3FD7-4AF7-9C4D-B65F672A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49C-C4AF-4EAF-8510-4A770A60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989-7CC8-492A-B97F-A3AAC177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50F-8063-4A41-8CDC-C33BB104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CCF-8A33-4A46-A272-DC85D22F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F39-819F-4230-BD0E-9EED625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76A-19F1-451C-A72B-1D267CE6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CEF4-6F7F-4858-A6CF-9FB6259F7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C7B6-EF4E-44F6-99C1-C0F7EE148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Rounded MT Bold"/>
              </a:rPr>
              <a:t>Las comid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Rockwell Extra Bold"/>
              </a:rPr>
              <a:t>Por: Mikayla Tirabass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Rockwell Extra Bold"/>
              </a:rPr>
              <a:t>El Desayun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Para el desayuno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toci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819520" y="274320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19520" y="4724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952880" y="27432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5288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006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724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858000" y="274320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0" y="4648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Fre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809880" y="5105520"/>
            <a:ext cx="1524240" cy="128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05320" y="6491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hocolate con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El almuerz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ahoma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1676520" cy="1523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3962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queso a la plan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6400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086600" y="2057400"/>
            <a:ext cx="1766880" cy="1557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0572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hamburguesa de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144756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81680" y="6216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dedos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2895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2900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ca co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00ff"/>
                </a:solidFill>
                <a:latin typeface="Tahoma"/>
              </a:rPr>
              <a:t>La Cen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Para la cena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86200" y="2514600"/>
            <a:ext cx="2457360" cy="1857240"/>
            <a:chOff x="3886200" y="2514600"/>
            <a:chExt cx="2457360" cy="1857240"/>
          </a:xfrm>
        </p:grpSpPr>
        <p:sp>
          <p:nvSpPr>
            <p:cNvPr id="115" name=""/>
            <p:cNvSpPr txBox="1"/>
            <p:nvPr/>
          </p:nvSpPr>
          <p:spPr>
            <a:xfrm>
              <a:off x="3886200" y="2514600"/>
              <a:ext cx="2457360" cy="18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1628640" cy="1424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60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file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243828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62520" y="4114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espague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172200" y="24382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286000" y="4724280"/>
            <a:ext cx="1600200" cy="1495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81080" y="6248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uleta de cer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334120" y="4724280"/>
            <a:ext cx="1371600" cy="1524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81480" y="6324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ahoma"/>
              </a:rPr>
              <a:t>El post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a el postre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1752480" cy="1181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s brown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00400" y="2590920"/>
            <a:ext cx="1495440" cy="123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4114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ventisca o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638680" y="2590920"/>
            <a:ext cx="1524240" cy="1218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5780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alleta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438280" y="4800600"/>
            <a:ext cx="1462320" cy="1162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0" y="6248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6248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elado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5257800" y="4648320"/>
            <a:ext cx="1562040" cy="152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814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15:04Z</dcterms:created>
  <dc:creator>tirabassimik</dc:creator>
  <dc:description/>
  <dc:language>en-US</dc:language>
  <cp:lastModifiedBy>tirabassimik</cp:lastModifiedBy>
  <dcterms:modified xsi:type="dcterms:W3CDTF">2011-04-14T18:09:01Z</dcterms:modified>
  <cp:revision>7</cp:revision>
  <dc:subject/>
  <dc:title>Las comidas</dc:title>
</cp:coreProperties>
</file>